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58400" cy="7772400"/>
  <p:notesSz cx="6670675" cy="9925050"/>
  <p:custShowLst>
    <p:custShow name="Методические материалы" id="0">
      <p:sldLst>
        <p:sld r:id="rId14"/>
      </p:sldLst>
    </p:custShow>
    <p:custShow name="Дидактические материалы" id="1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AutoShape 2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28"/>
          </p:nvPr>
        </p:nvSpPr>
        <p:spPr>
          <a:xfrm>
            <a:off x="3780000" y="-360"/>
            <a:ext cx="2885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Img"/>
          </p:nvPr>
        </p:nvSpPr>
        <p:spPr>
          <a:xfrm>
            <a:off x="925200" y="744480"/>
            <a:ext cx="481500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8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ftr" idx="29"/>
          </p:nvPr>
        </p:nvSpPr>
        <p:spPr>
          <a:xfrm>
            <a:off x="-360" y="9429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 type="sldNum" idx="30"/>
          </p:nvPr>
        </p:nvSpPr>
        <p:spPr>
          <a:xfrm>
            <a:off x="3780000" y="9429480"/>
            <a:ext cx="2885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45 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9A2C-6477-46E6-86B7-ADAC316C3F94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1BA57-5AC9-461B-A81A-211DF891DBA9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ACEB-21D3-4E86-81CE-CAF3C0B00215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CE432-DD51-46A1-8A96-E2C4A3181729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76BAF-91CC-41F1-8100-69393A45478A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C288F-73E0-4CE6-B30C-3CF13725D742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8D101-556A-4DFE-B333-4D3FD6A5FDC6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8"/>
          <p:cNvSpPr/>
          <p:nvPr/>
        </p:nvSpPr>
        <p:spPr>
          <a:xfrm>
            <a:off x="3780000" y="9429840"/>
            <a:ext cx="2885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640E9-FB55-4297-993B-97E34601741F}" type="slidenum">
              <a:rPr b="1" lang="en-GB" sz="1200" spc="-1" strike="noStrike">
                <a:solidFill>
                  <a:srgbClr val="000000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925560" y="744480"/>
            <a:ext cx="48178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156-B198-438D-BB9B-1188C274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25F-6E6A-4EF3-92B3-294C392E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68C7C-57A4-4D99-932C-6A00DF17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000AA-7145-4D02-A680-A07179E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392E8-6371-4DB9-A2A2-1B2B46D2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98F5F-FF0A-4727-9736-4B26BA1E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73DF7-46C0-4360-B095-6B6E0698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A2BEF-E788-486B-8AFE-CDEB87AD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46E62-ADB2-4011-84F2-CD5C1D5B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FDEC3-8FD7-4841-8673-D9BDE88C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8CA33-DA2A-40C1-9922-10EFDB4B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A89-5498-422F-811F-75D842BB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6AF-5184-4706-A73E-74161115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73E2-6567-4BB6-92F0-2A7841DF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E68C-54B3-4DC3-A5CA-CF43211D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D59-E8A7-47F3-AF7E-B7C73274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CCBC-6001-4B67-9AF8-D552CDD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4B1-38B7-480C-895E-52A7E39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7E0-D5A4-4104-B753-DA88ABEC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DED7-D3FD-46A5-901C-6906748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B42-DE27-4935-9ECC-E29A22D4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D964-8BCA-4868-AACB-3C8F19B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3A4D-4ADB-4140-9E99-27D136D6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5AEB-242A-41F1-9A6E-2B8F8A1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33C4-4C50-430C-8CA0-78A1C106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B6BB-F302-4A88-805B-83D52F37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AB40-C5F1-414D-8DCB-3BD5D13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D43B-6092-4441-BE06-24DCC518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AE47-1052-45B5-85C9-6200D2F3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610B-7958-4AEA-8168-2AE4FFFF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DBD2-7055-4208-9F09-9042FA8E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CF7-7C98-45D3-B856-526EC0D5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5E15-F164-4060-8079-62B12926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5927-5E00-404B-996C-092B3EE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81AF-B11C-4062-9A7C-FE7AA1F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17C2-ECD9-4F67-B6CB-6E05FAF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FE91-BED7-49F6-8205-257D0722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1CAE-219A-42AB-AE51-D98F4E2E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D0088-1202-4F65-944A-1559A300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E303-3A05-4898-81E8-C27FB495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8E57-6C3E-4A13-A3CF-3BB1301B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0201-DC73-4857-8A2B-4FC46CF7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4EB-1830-40E9-8523-F5F7DBE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78A6-B9E2-42A5-9438-9832EF4A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280D-E183-4404-8400-64C57C4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8625-1B6C-4B0B-9CC6-943032C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8854C-1F34-4A87-ACFC-66E648D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6A7F-8BF9-4977-8083-251D634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16FF8-5F67-4CF1-B633-90EA61F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0CA3-3373-4E55-9B7C-F6EA957F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6E1E-9884-4D1B-85BD-71BA7965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D3AB-6DF8-47FC-B31B-0D86DE5C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50C94-4904-42EA-9021-769B1D2E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732-DB00-44C4-BA97-1C4D265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6E632-519F-4784-9C9E-FE411944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FF10-1484-4FCF-BB5F-D96C25F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55AF-2554-4887-B307-8A2268D6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4D42-1C9C-47CB-86FD-6FBFBF33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2094A-3A11-4AA9-BFB7-6B49D9B2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0B94-55B1-4D7D-AF68-4BEC714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5655-64BD-459C-AF9E-3A6FDED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0EBF-686E-47A0-96E6-542B897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D65E-20CA-4B9C-967C-89BEAE66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4B4C-4C0B-4207-9338-E8D338F6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AF6-17DA-4D4C-A2BA-D65A1735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8C407-1332-4233-9444-947E5BDF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5AD87-7FC7-4F7B-8F4E-423FA47B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A2CEC-9D21-4E77-B15B-BCCFC9B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1CCA6-C26D-4843-A9B5-E9F7AB3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8951-44E1-4313-876B-31A6328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C30CC-5EB4-4292-9242-4AF3485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CF3F-454B-4D85-8045-199FC08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8523-5092-460C-9465-A28B09F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1B4A-CD1C-46EE-866F-D66222C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744F-37C2-4A71-A43A-3C1EE65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003-E2E3-4BD9-9C66-EB6BD8A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49D2-8D26-4052-A635-9EC1419E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F509-B4CF-4168-9AA6-6EE43E40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0179-B039-4B08-AC2D-8EFB4068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C989F-B958-46A3-91B9-F89540EB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D1C2-408F-4396-9240-0F625ED8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EFC4-455E-45E3-B550-D9259050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355B2-6986-4740-B11F-BB50C52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AC97-653D-48D9-8E9F-FC0FAD16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5538A-DDC1-498E-92B1-6242C74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40AE-2BC6-49F1-B18D-CA622BC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12C-45C0-4C50-B601-2D400C8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7FAC-DE6E-4F64-92B8-06E4C14D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0B0F2-DE19-4185-96EC-FE15488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EE25-084B-4359-9AA4-F4B02E29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05779-0323-42CC-A254-1373BD00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F475F-F374-4E1E-B3EF-CB889E3A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B1A6A-8BC9-40D0-AC54-5FA92E84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3B63F-E15A-40E3-8BA5-59B2A467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E8757-3E00-4704-B7F9-504D31C2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BFD01-C637-4A18-BCD6-BA87851F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17C1-2627-40AF-A380-C1D078B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1E6-B544-4759-B88D-FD0BAF9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B6EC-1EE7-4B29-B1E1-87861F7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C39E9-AC1A-4FE3-99F5-554D7C7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1428-B02F-4116-88CE-E3452469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672E1-EBD0-4126-B494-14F1E98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3280" y="4358880"/>
            <a:ext cx="905184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29999-0025-4739-95A7-B878E702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1880" y="167940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141880" y="4358880"/>
            <a:ext cx="441720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FDBB0-F587-4A37-B25A-113D8C68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6400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24720" y="167940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328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6400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624720" y="4358880"/>
            <a:ext cx="2914560" cy="244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33C8-2F1D-4E98-88CA-92FF2913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AF90F-06D6-490E-84D5-1E22ADD9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2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28886-0CF4-427D-AD14-F5BCF510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61523-DC29-486E-B34B-305CE182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8531280" cy="1292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62120" y="7086240"/>
            <a:ext cx="2054160" cy="531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7086240"/>
            <a:ext cx="3197160" cy="531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520" y="7086240"/>
            <a:ext cx="2054520" cy="531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C18318-273F-4B2D-96BE-FC1917358802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rcRect l="0" t="84" r="0" b="0"/>
          <a:stretch/>
        </p:blipFill>
        <p:spPr>
          <a:xfrm>
            <a:off x="228600" y="228600"/>
            <a:ext cx="18716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C7E406-59D8-4287-86EA-408BF6A0BE1A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10"/>
          <p:cNvSpPr/>
          <p:nvPr/>
        </p:nvSpPr>
        <p:spPr>
          <a:xfrm>
            <a:off x="0" y="5286240"/>
            <a:ext cx="1006632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Группа 15"/>
          <p:cNvGrpSpPr/>
          <p:nvPr/>
        </p:nvGrpSpPr>
        <p:grpSpPr>
          <a:xfrm>
            <a:off x="-4680" y="5613480"/>
            <a:ext cx="10063080" cy="2166840"/>
            <a:chOff x="-4680" y="5613480"/>
            <a:chExt cx="10063080" cy="2166840"/>
          </a:xfrm>
        </p:grpSpPr>
        <p:sp>
          <p:nvSpPr>
            <p:cNvPr id="90" name="Полилиния 16"/>
            <p:cNvSpPr/>
            <p:nvPr/>
          </p:nvSpPr>
          <p:spPr>
            <a:xfrm>
              <a:off x="1861200" y="5613480"/>
              <a:ext cx="8191080" cy="55188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Полилиния 18"/>
            <p:cNvSpPr/>
            <p:nvPr/>
          </p:nvSpPr>
          <p:spPr>
            <a:xfrm>
              <a:off x="46080" y="5935320"/>
              <a:ext cx="10006200" cy="89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Полилиния 19"/>
            <p:cNvGrpSpPr/>
            <p:nvPr/>
          </p:nvGrpSpPr>
          <p:grpSpPr>
            <a:xfrm>
              <a:off x="1080" y="5663160"/>
              <a:ext cx="10057320" cy="2117160"/>
              <a:chOff x="1080" y="5663160"/>
              <a:chExt cx="10057320" cy="2117160"/>
            </a:xfrm>
          </p:grpSpPr>
          <p:pic>
            <p:nvPicPr>
              <p:cNvPr id="93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663160"/>
                <a:ext cx="10057320" cy="21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6840" y="5667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5650920"/>
              <a:ext cx="10063080" cy="9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808EA4-F257-4C53-B781-73B3D85A2CB3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14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143" name="Нашивка 10"/>
          <p:cNvSpPr/>
          <p:nvPr/>
        </p:nvSpPr>
        <p:spPr>
          <a:xfrm>
            <a:off x="4000680" y="3406680"/>
            <a:ext cx="201600" cy="258840"/>
          </a:xfrm>
          <a:custGeom>
            <a:avLst/>
            <a:gdLst>
              <a:gd name="textAreaLeft" fmla="*/ 0 w 201600"/>
              <a:gd name="textAreaRight" fmla="*/ 201960 w 2016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Нашивка 15"/>
          <p:cNvSpPr/>
          <p:nvPr/>
        </p:nvSpPr>
        <p:spPr>
          <a:xfrm>
            <a:off x="3795840" y="3406680"/>
            <a:ext cx="199800" cy="258840"/>
          </a:xfrm>
          <a:custGeom>
            <a:avLst/>
            <a:gdLst>
              <a:gd name="textAreaLeft" fmla="*/ 0 w 199800"/>
              <a:gd name="textAreaRight" fmla="*/ 200160 w 1998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8B2736-B762-4ABE-B84C-141727FFEA15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18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4CE338-43D4-464F-AF4C-BAC148AF25BA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86BEB3-1A9C-4365-ABA6-4B64B966829B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олилиния 12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Полилиния 11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Прямоугольный треугольник 13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27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5BC56F-F2F1-4EA1-9861-AC73D4310C61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843CC2-750A-4B69-B2FB-28882265E58E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олилиния 10"/>
          <p:cNvSpPr/>
          <p:nvPr/>
        </p:nvSpPr>
        <p:spPr>
          <a:xfrm>
            <a:off x="787320" y="5668920"/>
            <a:ext cx="4183200" cy="163512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Полилиния 15"/>
          <p:cNvSpPr/>
          <p:nvPr/>
        </p:nvSpPr>
        <p:spPr>
          <a:xfrm>
            <a:off x="-58680" y="6556320"/>
            <a:ext cx="4181400" cy="9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Прямоугольный треугольник 16"/>
          <p:cNvGrpSpPr/>
          <p:nvPr/>
        </p:nvGrpSpPr>
        <p:grpSpPr>
          <a:xfrm>
            <a:off x="-12600" y="6559560"/>
            <a:ext cx="3755880" cy="1236600"/>
            <a:chOff x="-12600" y="6559560"/>
            <a:chExt cx="3755880" cy="1236600"/>
          </a:xfrm>
        </p:grpSpPr>
        <p:pic>
          <p:nvPicPr>
            <p:cNvPr id="365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6559560"/>
              <a:ext cx="3755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04920" y="7278840"/>
              <a:ext cx="18716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7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6546960"/>
            <a:ext cx="3762360" cy="1255680"/>
          </a:xfrm>
          <a:prstGeom prst="rect">
            <a:avLst/>
          </a:prstGeom>
          <a:ln w="0">
            <a:noFill/>
          </a:ln>
        </p:spPr>
      </p:pic>
      <p:sp>
        <p:nvSpPr>
          <p:cNvPr id="368" name="Нашивка 19"/>
          <p:cNvSpPr/>
          <p:nvPr/>
        </p:nvSpPr>
        <p:spPr>
          <a:xfrm>
            <a:off x="9529920" y="5653080"/>
            <a:ext cx="201600" cy="260280"/>
          </a:xfrm>
          <a:custGeom>
            <a:avLst/>
            <a:gdLst>
              <a:gd name="textAreaLeft" fmla="*/ 0 w 201600"/>
              <a:gd name="textAreaRight" fmla="*/ 201960 w 2016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Нашивка 20"/>
          <p:cNvSpPr/>
          <p:nvPr/>
        </p:nvSpPr>
        <p:spPr>
          <a:xfrm>
            <a:off x="9325080" y="5653080"/>
            <a:ext cx="201600" cy="260280"/>
          </a:xfrm>
          <a:custGeom>
            <a:avLst/>
            <a:gdLst>
              <a:gd name="textAreaLeft" fmla="*/ 0 w 201600"/>
              <a:gd name="textAreaRight" fmla="*/ 201960 w 2016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03280" y="1679400"/>
            <a:ext cx="9051840" cy="5129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4064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2280" indent="-2541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724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3320" indent="-2541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7120" indent="-25380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7120" indent="-25380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7399080" y="7262280"/>
            <a:ext cx="211284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817880" y="7262280"/>
            <a:ext cx="258588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9512280" y="7262280"/>
            <a:ext cx="401760" cy="412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0B4A5C-EEC7-4F53-B9AB-9BDD2214FDE9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2508120" y="70549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bc1104"/>
                </a:solidFill>
                <a:latin typeface="Times New Roman"/>
              </a:rPr>
              <a:t>КГПИ</a:t>
            </a:r>
            <a:r>
              <a:rPr b="1" lang="en-GB" sz="2400" spc="-1" strike="noStrike">
                <a:solidFill>
                  <a:srgbClr val="bc1104"/>
                </a:solidFill>
                <a:latin typeface="Times New Roman"/>
              </a:rPr>
              <a:t>- 20</a:t>
            </a:r>
            <a:r>
              <a:rPr b="1" lang="ru-RU" sz="2400" spc="-1" strike="noStrike">
                <a:solidFill>
                  <a:srgbClr val="bc1104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4">
            <a:hlinkClick r:id="" action="ppaction://hlinkshowjump?jump=nextslide"/>
          </p:cNvPr>
          <p:cNvSpPr/>
          <p:nvPr/>
        </p:nvSpPr>
        <p:spPr>
          <a:xfrm>
            <a:off x="8991720" y="72388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2100240" y="1171440"/>
            <a:ext cx="56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етыре стихии, четыр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дствия и челове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6029280" y="502920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1104"/>
                </a:solidFill>
                <a:latin typeface="Garamond"/>
              </a:rPr>
              <a:t>Автор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5958000" y="54579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Панюкова Тать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"/>
          <p:cNvSpPr/>
          <p:nvPr/>
        </p:nvSpPr>
        <p:spPr>
          <a:xfrm>
            <a:off x="2365200" y="573120"/>
            <a:ext cx="715968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bc1104"/>
                </a:solidFill>
                <a:latin typeface="Arial"/>
              </a:rPr>
              <a:t>Творческое название проек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тыре стихии, четыр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дствия и человек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bc1104"/>
                </a:solidFill>
                <a:latin typeface="Arial"/>
              </a:rPr>
              <a:t>Аннотац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AutoShape 2">
            <a:hlinkClick r:id="" action="ppaction://hlinkshowjump?jump=previousslide"/>
          </p:cNvPr>
          <p:cNvSpPr/>
          <p:nvPr/>
        </p:nvSpPr>
        <p:spPr>
          <a:xfrm>
            <a:off x="8664480" y="72388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AutoShape 3">
            <a:hlinkClick r:id="" action="ppaction://hlinkshowjump?jump=nextslide"/>
          </p:cNvPr>
          <p:cNvSpPr/>
          <p:nvPr/>
        </p:nvSpPr>
        <p:spPr>
          <a:xfrm>
            <a:off x="9023400" y="72262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220840" y="2230560"/>
            <a:ext cx="73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ект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«Стихийные бедствия и человек» предназначен для учащихся 8 классов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Проект знакомит детей с четырьмя стихиями и бедствиями в них. Он основан на интеграции таких предметов, как ОБЖ, географ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Работая над проектом каждый ученик проявил свои склонности и интерес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Проект позволит детям освободиться от страха и избавиться от неуверенности перед стихийными бедствиями.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519280" y="2290320"/>
            <a:ext cx="7005600" cy="5629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87480" algn="just">
              <a:lnSpc>
                <a:spcPct val="80000"/>
              </a:lnSpc>
              <a:spcBef>
                <a:spcPts val="451"/>
              </a:spcBef>
              <a:spcAft>
                <a:spcPts val="1400"/>
              </a:spcAft>
              <a:tabLst>
                <a:tab algn="l" pos="0"/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c1104"/>
                </a:solidFill>
                <a:latin typeface="Lucida Sans Unicode"/>
              </a:rPr>
              <a:t>Вопросы учебной темы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Что Вы знаете о стихийных бедствиях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Какой из домов наиболее устойчив при землетрясении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Как предотвратить пожар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К чему приводит наводнение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algn="just">
              <a:lnSpc>
                <a:spcPct val="100000"/>
              </a:lnSpc>
              <a:spcBef>
                <a:spcPts val="451"/>
              </a:spcBef>
              <a:spcAft>
                <a:spcPts val="1049"/>
              </a:spcAft>
              <a:buClr>
                <a:srgbClr val="0000ff"/>
              </a:buClr>
              <a:buSzPct val="68000"/>
              <a:buFont typeface="Wingdings" charset="2"/>
              <a:buChar char=""/>
              <a:tabLst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Возможно ли остановить цунами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87480">
              <a:lnSpc>
                <a:spcPct val="80000"/>
              </a:lnSpc>
              <a:spcBef>
                <a:spcPts val="451"/>
              </a:spcBef>
              <a:spcAft>
                <a:spcPts val="1400"/>
              </a:spcAft>
              <a:tabLst>
                <a:tab algn="l" pos="0"/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c1104"/>
                </a:solidFill>
                <a:latin typeface="Lucida Sans Unicode"/>
              </a:rPr>
              <a:t>Темы исследований учащихся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7480">
              <a:lnSpc>
                <a:spcPct val="100000"/>
              </a:lnSpc>
              <a:spcBef>
                <a:spcPts val="451"/>
              </a:spcBef>
              <a:spcAft>
                <a:spcPts val="176"/>
              </a:spcAft>
              <a:tabLst>
                <a:tab algn="l" pos="0"/>
                <a:tab algn="l" pos="3110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  <a:ea typeface="Times New Roman"/>
              </a:rPr>
              <a:t>«Стихийные бедствия: наводнения и цунами", «Пожары».</a:t>
            </a:r>
            <a:r>
              <a:rPr b="0" lang="en-GB" sz="400" spc="-1" strike="noStrike">
                <a:solidFill>
                  <a:srgbClr val="0000ff"/>
                </a:solidFill>
                <a:latin typeface="Garamond"/>
                <a:ea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1" descr=""/>
          <p:cNvPicPr/>
          <p:nvPr/>
        </p:nvPicPr>
        <p:blipFill>
          <a:blip r:embed="rId1"/>
          <a:stretch/>
        </p:blipFill>
        <p:spPr>
          <a:xfrm>
            <a:off x="2114640" y="96840"/>
            <a:ext cx="7950240" cy="249408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3">
            <a:hlinkClick r:id="" action="ppaction://hlinkshowjump?jump=nextslide"/>
          </p:cNvPr>
          <p:cNvSpPr/>
          <p:nvPr/>
        </p:nvSpPr>
        <p:spPr>
          <a:xfrm>
            <a:off x="9061560" y="727092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4">
            <a:hlinkClick r:id="" action="ppaction://hlinkshowjump?jump=previousslide"/>
          </p:cNvPr>
          <p:cNvSpPr/>
          <p:nvPr/>
        </p:nvSpPr>
        <p:spPr>
          <a:xfrm>
            <a:off x="8694720" y="725328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457200" y="4572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2149560" y="573120"/>
            <a:ext cx="7543800" cy="70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6600"/>
                </a:solidFill>
                <a:latin typeface="Garamond"/>
                <a:ea typeface="Times New Roman"/>
              </a:rPr>
              <a:t>Формировани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ответственного отношения  личному здоровью как индивидуальной и общественной цен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предвидеть возникновение опасных и чрезвычайных ситуаций по характерным признакам их появления, а так же  принимать обоснованные решения и разрабатывать план своих действий в конкретной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опасной ситуации с учетом реальной обстановки своих возможностей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знаний  об опасных и чрезвычайных ситуациях, о влиянии их последствий на безопасность личности, общества и государства; о государственной системе обеспечения безопасности населения в чрезвычайных ситуациях; об организации подготовки населения к действиям в условиях опасных и чрезвычайных ситуац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6600"/>
                </a:solidFill>
                <a:latin typeface="Garamond"/>
                <a:ea typeface="Times New Roman"/>
              </a:rPr>
              <a:t>Развити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личных духовных и физических качеств, обеспечивающих адекватное поведение в опасных и чрезвычайных ситуациях природного и техногенного характера;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2">
            <a:hlinkClick r:id="" action="ppaction://hlinkshowjump?jump=nextslide"/>
          </p:cNvPr>
          <p:cNvSpPr/>
          <p:nvPr/>
        </p:nvSpPr>
        <p:spPr>
          <a:xfrm>
            <a:off x="9016920" y="7238880"/>
            <a:ext cx="355680" cy="204840"/>
          </a:xfrm>
          <a:custGeom>
            <a:avLst/>
            <a:gdLst>
              <a:gd name="textAreaLeft" fmla="*/ 12960 w 355680"/>
              <a:gd name="textAreaRight" fmla="*/ 342720 w 35568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478" h="21600">
                <a:moveTo>
                  <a:pt x="0" y="0"/>
                </a:moveTo>
                <a:lnTo>
                  <a:pt x="37478" y="0"/>
                </a:lnTo>
                <a:lnTo>
                  <a:pt x="37478" y="21600"/>
                </a:lnTo>
                <a:lnTo>
                  <a:pt x="0" y="21600"/>
                </a:lnTo>
                <a:close/>
              </a:path>
              <a:path fill="lightenLess" w="37478" h="21600">
                <a:moveTo>
                  <a:pt x="0" y="0"/>
                </a:moveTo>
                <a:lnTo>
                  <a:pt x="37478" y="0"/>
                </a:lnTo>
                <a:lnTo>
                  <a:pt x="36078" y="1400"/>
                </a:lnTo>
                <a:lnTo>
                  <a:pt x="1400" y="1400"/>
                </a:lnTo>
                <a:close/>
              </a:path>
              <a:path fill="darken" w="37478" h="21600">
                <a:moveTo>
                  <a:pt x="37478" y="0"/>
                </a:moveTo>
                <a:lnTo>
                  <a:pt x="37478" y="21600"/>
                </a:lnTo>
                <a:lnTo>
                  <a:pt x="36078" y="20200"/>
                </a:lnTo>
                <a:lnTo>
                  <a:pt x="36078" y="1400"/>
                </a:lnTo>
                <a:close/>
              </a:path>
              <a:path fill="darkenLess" w="37478" h="21600">
                <a:moveTo>
                  <a:pt x="37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78" y="20200"/>
                </a:lnTo>
                <a:close/>
              </a:path>
              <a:path fill="lighten" w="37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78" h="21600">
                <a:moveTo>
                  <a:pt x="11732" y="3794"/>
                </a:moveTo>
                <a:lnTo>
                  <a:pt x="25745" y="10800"/>
                </a:lnTo>
                <a:lnTo>
                  <a:pt x="11732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AutoShape 3">
            <a:hlinkClick r:id="" action="ppaction://hlinkshowjump?jump=previousslide"/>
          </p:cNvPr>
          <p:cNvSpPr/>
          <p:nvPr/>
        </p:nvSpPr>
        <p:spPr>
          <a:xfrm>
            <a:off x="8664480" y="72388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2292480" y="114948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Rectangle 5" descr=""/>
          <p:cNvPicPr/>
          <p:nvPr/>
        </p:nvPicPr>
        <p:blipFill>
          <a:blip r:embed="rId1"/>
          <a:stretch/>
        </p:blipFill>
        <p:spPr>
          <a:xfrm>
            <a:off x="2041560" y="12600"/>
            <a:ext cx="6973920" cy="68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Ознакомить учащихся со стихийными бедствиям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Научить правильно «встречать» опасность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Формирование у учащихся ответственного отношения к вопросам личной безопасности и безопасности окружающих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Развить творческие способности учащихс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buClr>
                <a:srgbClr val="0000ff"/>
              </a:buClr>
              <a:buSzPct val="68000"/>
              <a:buFont typeface="Times New Roman"/>
              <a:buChar char="•"/>
              <a:tabLst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Научить строить собственное научное исследование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spcAft>
                <a:spcPts val="964"/>
              </a:spcAft>
              <a:tabLst>
                <a:tab algn="l" pos="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7800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1" descr=""/>
          <p:cNvPicPr/>
          <p:nvPr/>
        </p:nvPicPr>
        <p:blipFill>
          <a:blip r:embed="rId1"/>
          <a:stretch/>
        </p:blipFill>
        <p:spPr>
          <a:xfrm>
            <a:off x="2236680" y="847800"/>
            <a:ext cx="6973920" cy="117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2292480" y="501480"/>
            <a:ext cx="70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2292480" y="285840"/>
            <a:ext cx="698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bc1104"/>
                </a:solidFill>
                <a:latin typeface="Garamond"/>
              </a:rPr>
              <a:t>Этапы и сроки проведения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AutoShape 3">
            <a:hlinkClick r:id="" action="ppaction://hlinkshowjump?jump=nextslide"/>
          </p:cNvPr>
          <p:cNvSpPr/>
          <p:nvPr/>
        </p:nvSpPr>
        <p:spPr>
          <a:xfrm>
            <a:off x="9055080" y="7251840"/>
            <a:ext cx="355680" cy="204480"/>
          </a:xfrm>
          <a:custGeom>
            <a:avLst/>
            <a:gdLst>
              <a:gd name="textAreaLeft" fmla="*/ 12960 w 355680"/>
              <a:gd name="textAreaRight" fmla="*/ 342720 w 355680"/>
              <a:gd name="textAreaTop" fmla="*/ 12960 h 204480"/>
              <a:gd name="textAreaBottom" fmla="*/ 191520 h 204480"/>
            </a:gdLst>
            <a:ahLst/>
            <a:rect l="textAreaLeft" t="textAreaTop" r="textAreaRight" b="textAreaBottom"/>
            <a:pathLst>
              <a:path w="37544" h="21600">
                <a:moveTo>
                  <a:pt x="0" y="0"/>
                </a:moveTo>
                <a:lnTo>
                  <a:pt x="37544" y="0"/>
                </a:lnTo>
                <a:lnTo>
                  <a:pt x="37544" y="21600"/>
                </a:lnTo>
                <a:lnTo>
                  <a:pt x="0" y="21600"/>
                </a:lnTo>
                <a:close/>
              </a:path>
              <a:path fill="lightenLess" w="37544" h="21600">
                <a:moveTo>
                  <a:pt x="0" y="0"/>
                </a:moveTo>
                <a:lnTo>
                  <a:pt x="37544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4" h="21600">
                <a:moveTo>
                  <a:pt x="37544" y="0"/>
                </a:moveTo>
                <a:lnTo>
                  <a:pt x="37544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4" h="21600">
                <a:moveTo>
                  <a:pt x="37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44" h="21600">
                <a:moveTo>
                  <a:pt x="11765" y="3794"/>
                </a:moveTo>
                <a:lnTo>
                  <a:pt x="25778" y="10800"/>
                </a:lnTo>
                <a:lnTo>
                  <a:pt x="11765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AutoShape 4">
            <a:hlinkClick r:id="" action="ppaction://hlinkshowjump?jump=previousslide"/>
          </p:cNvPr>
          <p:cNvSpPr/>
          <p:nvPr/>
        </p:nvSpPr>
        <p:spPr>
          <a:xfrm>
            <a:off x="8693280" y="72532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220480" y="861480"/>
            <a:ext cx="7456680" cy="6729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ыбор темы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1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мерные темы и направления исследовани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ебования и критерии оценк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Формирование творческих групп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1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пределение поручений в команд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учение плана действий согласно выбранной рол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дбор материала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1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з данных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источников информаци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способов сбора информаци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способа представления результатов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оздание презентации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2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оздание публикации и веб-сайта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3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22120" indent="-222120">
              <a:lnSpc>
                <a:spcPct val="60000"/>
              </a:lnSpc>
              <a:spcBef>
                <a:spcPts val="451"/>
              </a:spcBef>
              <a:spcAft>
                <a:spcPts val="87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щита проведенных исследований 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3-я неделя)</a:t>
            </a:r>
            <a:r>
              <a:rPr b="1" lang="en-GB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бор членов жюри (учителя-предметники)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ступления команд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усси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5800" indent="-223920">
              <a:lnSpc>
                <a:spcPct val="60000"/>
              </a:lnSpc>
              <a:spcBef>
                <a:spcPts val="363"/>
              </a:spcBef>
              <a:spcAft>
                <a:spcPts val="876"/>
              </a:spcAft>
              <a:buClr>
                <a:srgbClr val="0000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 зрительских симпати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3">
            <a:hlinkClick r:id="" action="ppaction://hlinkshowjump?jump=previousslide"/>
          </p:cNvPr>
          <p:cNvSpPr/>
          <p:nvPr/>
        </p:nvSpPr>
        <p:spPr>
          <a:xfrm>
            <a:off x="8666280" y="7253280"/>
            <a:ext cx="357120" cy="204840"/>
          </a:xfrm>
          <a:custGeom>
            <a:avLst/>
            <a:gdLst>
              <a:gd name="textAreaLeft" fmla="*/ 12960 w 357120"/>
              <a:gd name="textAreaRight" fmla="*/ 344160 w 35712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37629" h="21600">
                <a:moveTo>
                  <a:pt x="0" y="0"/>
                </a:moveTo>
                <a:lnTo>
                  <a:pt x="37629" y="0"/>
                </a:lnTo>
                <a:lnTo>
                  <a:pt x="37629" y="21600"/>
                </a:lnTo>
                <a:lnTo>
                  <a:pt x="0" y="21600"/>
                </a:lnTo>
                <a:close/>
              </a:path>
              <a:path fill="lightenLess" w="37629" h="21600">
                <a:moveTo>
                  <a:pt x="0" y="0"/>
                </a:moveTo>
                <a:lnTo>
                  <a:pt x="37629" y="0"/>
                </a:lnTo>
                <a:lnTo>
                  <a:pt x="36229" y="1400"/>
                </a:lnTo>
                <a:lnTo>
                  <a:pt x="1400" y="1400"/>
                </a:lnTo>
                <a:close/>
              </a:path>
              <a:path fill="darken" w="37629" h="21600">
                <a:moveTo>
                  <a:pt x="37629" y="0"/>
                </a:moveTo>
                <a:lnTo>
                  <a:pt x="37629" y="21600"/>
                </a:lnTo>
                <a:lnTo>
                  <a:pt x="36229" y="20200"/>
                </a:lnTo>
                <a:lnTo>
                  <a:pt x="36229" y="1400"/>
                </a:lnTo>
                <a:close/>
              </a:path>
              <a:path fill="darkenLess" w="37629" h="21600">
                <a:moveTo>
                  <a:pt x="3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9" y="20200"/>
                </a:lnTo>
                <a:close/>
              </a:path>
              <a:path fill="lighten" w="3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29" h="21600">
                <a:moveTo>
                  <a:pt x="11808" y="10800"/>
                </a:moveTo>
                <a:lnTo>
                  <a:pt x="25821" y="3794"/>
                </a:lnTo>
                <a:lnTo>
                  <a:pt x="25821" y="17806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AutoShape 4">
            <a:hlinkClick r:id="" action="ppaction://hlinkshowjump?jump=endshow"/>
          </p:cNvPr>
          <p:cNvSpPr/>
          <p:nvPr/>
        </p:nvSpPr>
        <p:spPr>
          <a:xfrm>
            <a:off x="9029880" y="7251840"/>
            <a:ext cx="355320" cy="204480"/>
          </a:xfrm>
          <a:custGeom>
            <a:avLst/>
            <a:gdLst>
              <a:gd name="textAreaLeft" fmla="*/ 12960 w 355320"/>
              <a:gd name="textAreaRight" fmla="*/ 342360 w 355320"/>
              <a:gd name="textAreaTop" fmla="*/ 12960 h 204480"/>
              <a:gd name="textAreaBottom" fmla="*/ 191520 h 204480"/>
            </a:gdLst>
            <a:ahLst/>
            <a:rect l="textAreaLeft" t="textAreaTop" r="textAreaRight" b="textAreaBottom"/>
            <a:pathLst>
              <a:path w="37506" h="21600">
                <a:moveTo>
                  <a:pt x="0" y="0"/>
                </a:moveTo>
                <a:lnTo>
                  <a:pt x="37506" y="0"/>
                </a:lnTo>
                <a:lnTo>
                  <a:pt x="37506" y="21600"/>
                </a:lnTo>
                <a:lnTo>
                  <a:pt x="0" y="21600"/>
                </a:lnTo>
                <a:close/>
              </a:path>
              <a:path fill="lightenLess" w="37506" h="21600">
                <a:moveTo>
                  <a:pt x="0" y="0"/>
                </a:moveTo>
                <a:lnTo>
                  <a:pt x="37506" y="0"/>
                </a:lnTo>
                <a:lnTo>
                  <a:pt x="36106" y="1400"/>
                </a:lnTo>
                <a:lnTo>
                  <a:pt x="1400" y="1400"/>
                </a:lnTo>
                <a:close/>
              </a:path>
              <a:path fill="darken" w="37506" h="21600">
                <a:moveTo>
                  <a:pt x="37506" y="0"/>
                </a:moveTo>
                <a:lnTo>
                  <a:pt x="37506" y="21600"/>
                </a:lnTo>
                <a:lnTo>
                  <a:pt x="36106" y="20200"/>
                </a:lnTo>
                <a:lnTo>
                  <a:pt x="36106" y="1400"/>
                </a:lnTo>
                <a:close/>
              </a:path>
              <a:path fill="darkenLess" w="37506" h="21600">
                <a:moveTo>
                  <a:pt x="37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06" y="20200"/>
                </a:lnTo>
                <a:close/>
              </a:path>
              <a:path fill="lighten" w="37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06" h="21600">
                <a:moveTo>
                  <a:pt x="18753" y="3837"/>
                </a:moveTo>
                <a:lnTo>
                  <a:pt x="21329" y="6448"/>
                </a:lnTo>
                <a:lnTo>
                  <a:pt x="21329" y="4707"/>
                </a:lnTo>
                <a:lnTo>
                  <a:pt x="23105" y="4707"/>
                </a:lnTo>
                <a:lnTo>
                  <a:pt x="23105" y="8224"/>
                </a:lnTo>
                <a:lnTo>
                  <a:pt x="25716" y="10800"/>
                </a:lnTo>
                <a:lnTo>
                  <a:pt x="24062" y="10800"/>
                </a:lnTo>
                <a:lnTo>
                  <a:pt x="24062" y="17989"/>
                </a:lnTo>
                <a:lnTo>
                  <a:pt x="13444" y="17989"/>
                </a:lnTo>
                <a:lnTo>
                  <a:pt x="13444" y="10800"/>
                </a:lnTo>
                <a:lnTo>
                  <a:pt x="11790" y="10800"/>
                </a:lnTo>
                <a:close/>
              </a:path>
              <a:path fill="darkenLess" w="37506" h="21600">
                <a:moveTo>
                  <a:pt x="21329" y="6448"/>
                </a:moveTo>
                <a:lnTo>
                  <a:pt x="21329" y="4707"/>
                </a:lnTo>
                <a:lnTo>
                  <a:pt x="23105" y="4707"/>
                </a:lnTo>
                <a:lnTo>
                  <a:pt x="23105" y="8224"/>
                </a:lnTo>
                <a:close/>
              </a:path>
              <a:path fill="darkenLess" w="37506" h="21600">
                <a:moveTo>
                  <a:pt x="17830" y="14299"/>
                </a:moveTo>
                <a:lnTo>
                  <a:pt x="19675" y="14299"/>
                </a:lnTo>
                <a:lnTo>
                  <a:pt x="19675" y="17989"/>
                </a:lnTo>
                <a:lnTo>
                  <a:pt x="24062" y="17989"/>
                </a:lnTo>
                <a:lnTo>
                  <a:pt x="24062" y="10800"/>
                </a:lnTo>
                <a:lnTo>
                  <a:pt x="13444" y="10800"/>
                </a:lnTo>
                <a:lnTo>
                  <a:pt x="13444" y="17989"/>
                </a:lnTo>
                <a:lnTo>
                  <a:pt x="17830" y="17989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Заголовок 7" descr=""/>
          <p:cNvPicPr/>
          <p:nvPr/>
        </p:nvPicPr>
        <p:blipFill>
          <a:blip r:embed="rId1"/>
          <a:stretch/>
        </p:blipFill>
        <p:spPr>
          <a:xfrm>
            <a:off x="450720" y="1620720"/>
            <a:ext cx="9064800" cy="1940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ster</cp:lastModifiedBy>
  <dcterms:modified xsi:type="dcterms:W3CDTF">2010-06-02T18:44:10Z</dcterms:modified>
  <cp:revision>2</cp:revision>
  <dc:subject/>
  <dc:title>Слайд 1</dc:title>
</cp:coreProperties>
</file>